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1C0D-D722-4D04-AD02-2165B90A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4DC-098E-4F8D-882C-E1B5E1CD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CD6-5944-4442-833F-EE5D5870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B8B-B0B1-4A0E-9BFE-D5BD0D88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B235-6C72-43A2-A74F-9AC7450E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389-F18C-4CEF-8166-43691F82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43C-B7E0-4D6D-904D-DADCBFA8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64F-91BB-4854-8FB1-E03C5E3A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886-E0BA-41FA-88AD-830A8BAC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762-3E4A-423E-A504-FAC96A17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C12-1294-4CE7-9DCA-8C9C1CC0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0B2-8EDE-4FCD-A407-3130A7D4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7C9E-9928-43B5-A355-ABE3C8F8D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id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6553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8:49:54Z</dcterms:created>
  <dc:creator>Carolyn Spielmann</dc:creator>
  <dc:description/>
  <dc:language>en-US</dc:language>
  <cp:lastModifiedBy>Carolyn Spielmann</cp:lastModifiedBy>
  <dcterms:modified xsi:type="dcterms:W3CDTF">2010-02-04T18:50:25Z</dcterms:modified>
  <cp:revision>1</cp:revision>
  <dc:subject/>
  <dc:title>Comparing presidents </dc:title>
</cp:coreProperties>
</file>